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765A-2D81-458D-A0E4-6216F5F1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BF7-8A83-47FD-B5A7-E60C0CBB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8E238-5DD2-4D16-AAD7-FC6793FB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3F747-0323-4E1C-877C-4FFFA88B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1C9E6-8962-41D3-8902-4142BB1D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96583-D89E-45D4-8514-4A278175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6558E-7BB7-4FB8-8A8C-027AA54D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373FC-88D7-45B6-A98B-6A01BBE7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84219-F577-4D7C-BAFB-6F80A130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F9541-60DB-42BA-9A15-DC4F227D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20D3E-F6BD-43A0-A752-B73A9BA0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3AD44-4EC7-4EF4-8962-B1363BEB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49BD-6592-4713-B353-401FCE41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A7363-C483-4739-BC0E-3B3B6674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4598C-E896-4E5B-9984-35CB6689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573D8-D26F-4738-8577-3D2C6F88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773CB-57AE-4697-B602-BEE2031A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36E44-14E9-4433-BE1F-6FC05405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933C4-D207-42C8-A2E8-BA90C886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0DB8B-EA8B-4CB8-89DD-E4FA9980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E427F-478C-4F4C-81CD-6FA7F6BB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5F948-43EC-4336-A1EB-2AC8A0B6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08197-15AF-485F-A45C-AC775828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19D-30D4-4DFD-A3EA-91CE3106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99422-8ADF-473A-9A4D-C3FA133E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0098E-33E8-4FA8-8CB4-51130AAE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C5B23-91AC-4176-9D67-56AB4C2F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E0666-5C91-433F-AE92-6DE8F6F8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A3B54-B30D-4104-B8D7-380C620D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03DC9-DB9E-401D-ACB3-284840A4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3B2A3-72C7-44F0-8931-10985ABA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5EF98-5CD2-450E-8553-EA9160A7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8C10B-BFED-42CD-BFC0-DA923B85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60E8D-653A-4738-8A65-AD3B248E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F409-B22F-4E86-B6B3-8D949A08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FAE07-6CE8-473A-A1D3-3D5C6AA7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F0B9B-40AF-45BB-93AB-DB511898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BADB1-1799-4B03-8D60-8897D8BA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36B74-A21B-4617-A50E-EFB8CCD4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3A5A6-183A-4F8B-AC59-4857FA76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B10E4-6379-4CE0-86A2-13E0787F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DAED4-598F-417D-A921-B72266C1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FF272-8A6F-4603-BD2E-8BCB856A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39A74-9E4D-4752-A384-CB56C596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4C0B7-EA5D-493E-BD8B-2E886280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C848-20FB-45D7-9A0F-1F2238DF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7AB0A-EA86-4B44-8A64-FE614B64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CFC2E-BC1A-467D-AE9A-36609EDA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668A3-BBA5-400A-ADAE-27AE03FA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8CDE5-5F2E-48FD-B844-FAEBE615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3488A-35C8-4664-AE4B-6D86FF56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1ADE8-CC15-4B70-9E82-4AF5BE80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538B2-5651-498A-9EBB-C533B195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2630E-6C66-4235-8092-6CA1C257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1B09DD-BD3A-4A75-B0D3-3D640EDA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D8D1E-E815-4452-925C-0DE41C6F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122B-A046-443D-BFBF-648292A7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D97DD-888B-4D1B-8DE5-FEC8AAEF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CB31E-29CD-4424-B554-02D85B50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C8892-4FE0-4AD2-94F2-90E7852B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58D152-4D7A-4E98-8EB1-B16338AE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F8C17-520B-4112-8948-9B954339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38588-08EA-4BE6-8923-9536487F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AABA6-8D0E-475A-9097-27A9FDBE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81912-786F-4C17-910F-9D28565A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685E4-7A4A-4477-892F-1D9266BC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C8E60C-C3BC-40DD-9A61-630A4AAC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773A-06B7-45D6-8BAE-F0481BF3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2F0BE4-3C8B-4884-BD5D-2E76D2A1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6E1ACE-912F-46B1-A5ED-B18FF8C8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6310EC-3A65-4E4F-B1D1-CC9D0B46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6B2C41-FDC4-4E33-A1DB-C9C8AEA8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5BB8E5-A3F9-48EF-BA06-647F36E5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D5851A-E67E-45C0-AA73-E0DB4CAC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A8E73-4F8B-4E63-AD8C-0A6C8B1E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328593-0C21-4A17-9465-55CE4EB2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488095-2CA6-4375-BE48-2E244F3B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4761F4-11E4-43A9-AC60-046133EC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D670-CBF1-44FF-B4BC-8577D253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523FC1-56A4-4637-B9D1-3B388C15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E8749A-6215-4C70-8DD7-B3ECDA04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649E5E-9D5F-4413-B59E-4A108D30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3B89E8-11A3-4CC8-AC5E-6F9BB0B0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C4A8AF-76FF-4F30-9872-FCAD36AF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2BB43A-96C4-4A37-ABB2-68D1E805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62FFE7-43E0-478E-85D0-9FAC72BB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6202D1-E742-4CAD-84FE-6244A9D0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1D47F5-A519-4E72-82F7-A24287AC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890995-AD7A-4408-8F8C-21028C27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619E-0649-43F3-82B3-2D4B257D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AED3E0-27CB-47FB-ACE9-382239C4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1B8A48-57E4-4D56-9D03-16BDA572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57E62-91AC-46BC-91D0-5B08B130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E57FF0-8E52-4E33-9C93-2C388C69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C6A195-43F2-42A5-9A3F-A67EF09E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7B7F54-6EBC-4E27-9FA3-F9232B13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9E70AB-28F5-49D1-B661-1DC63FFC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A2BB63-C4FC-4BB9-B278-F0B11AC8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C12BBD-1813-4566-8801-96319D8C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5A8043-FC81-4507-842D-6FABC17E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25BE-6DEA-4D2B-B8DA-667015BA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A4CAA-7538-4FA6-AD52-DA3035AB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4DF243-97A3-49CD-8DD7-FEBE9FCA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34E457-A695-4F9E-8A6D-6B539D41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47681-260F-48DB-B1DB-1CD5635E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A94B60-F954-4BC3-99CA-B23FEDB3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3F6E65-F866-4DFF-A37C-319CC38C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2B7F74-CDC0-41AC-9699-065B78DD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527665-8A51-46DA-A765-6ADFFFF3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BCE8B6-DB25-4FE3-A227-8506B816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71BA54-CD13-48E4-B4ED-8C35868A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9811-AAEE-475D-A981-8E770BBF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4AC0-AC00-4074-9FB6-B8DBBA2C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EECC3B-8F5D-4532-9ECA-CD2B7CFE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C38EA3-4D94-4086-A3FF-D939AB51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92309C-745C-4141-8B34-5160D9F7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481013-E1B2-4BF1-A8F4-E0D36AAD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B32DE8-B2FA-4692-B2F9-91289F75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11D7F7-B1B5-4D80-A9D7-2D9B8DAE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11FE0D-8F15-41EA-A6D8-C63D68B0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C26CD1-FCCE-405D-BE3C-18A1159A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5632D8-5FF3-436D-B6F0-8D51B4D5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291450-A022-4E55-AC4E-AEEFCAF3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07CF-10DF-4D9F-B1D7-96B43621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880BB-71E8-4335-BA22-4C50064E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9C0CD2-1F23-405E-AC7E-1560B705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564145-889F-4A76-A343-A5287761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FF9E51-8968-4A53-997A-FEF50C11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9DE4B5-620F-451D-AC9C-428BBFB2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BF4136-1AF3-478A-A6E0-621D3A96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B88A0E-AF8C-4111-AF3E-B4C767FD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FC54E5-65DF-4574-9AA8-9C365970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ABAA46-1F77-413F-901E-DE412331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DECDCB-B512-4294-A2A7-432A67A3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BE83-6907-4D9F-97DA-188B7B6D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E6C20D-D527-4B88-91A5-93EFEA95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7E4F0F-108D-4B55-85C8-24AABC8C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758B97-5701-4A02-A171-B6063806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441E30-85E6-4B89-A7C3-9A5D5641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E2D6A6-2737-4995-B2F0-09174875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363085-6926-4080-B178-5D23ACA4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D2DC57-EABA-4E98-B8AF-3F11329D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7795CF-95A1-4070-9C58-A2C98147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F76D0C-6D9C-4F8B-B906-82404951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CB33BD-4EC5-48E7-9DCD-EA3D68D7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8C4D-4950-4071-AB73-FE72552C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E8ED38-3FB8-4BBD-97C7-175015E5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02E590-2335-4FF2-BC89-2209C6B1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3BAC03-8E67-49D0-873F-A11A2885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ACF593-BA9F-4AFD-B8D1-A50013B9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3A734E-F7BB-47FA-81E5-4DBA1DF0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DAD759-3EB1-4CB2-A23A-313CB97C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D22879-9A8D-42C4-BFFC-5338F118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E4039E-6EA8-4365-BAA1-475E5105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64D234-8A40-4007-BB53-B95AACD1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8924ED-33B4-4FFE-9494-29E69CC2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9F01-C4B8-41CA-AA05-BBF19A49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4C385C-9881-4F01-A69C-BC1AC2C7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8FEB75-CCFF-4823-AB6C-E393B096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2C462B-4043-4F45-A627-F69195FB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88B108-7B0A-4996-B00B-3A1CF219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D6A148-2141-41B0-8C9D-46A53D59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9F0ED3-551F-479E-93DE-72683DF0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EE7329-A5B3-4021-9111-C2F77C28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FB7DCB-BBF7-49CA-B970-A38DCA4C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F0AF62-F77D-44E2-94AE-3BE4AA66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B30BDA-19BD-4AFB-A570-109F8C77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BA62-2CCB-4749-82DF-5CEA3EB8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3B07FF-C58E-4DF0-81B6-1B71BF52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0E140C-EAF1-43C7-9E31-3106C850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41B635-D44A-4001-9BCD-249EF53F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7E2E7-38C2-4809-A3B9-730E5EF9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502B1-1E15-4698-B9B5-8F5896DB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59F9D-4688-406F-BD62-38E245C7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518DE-27A5-4FDA-8302-F1C40A21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BA4-3735-4912-B2A3-84E6560F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5CB45-0B91-4747-ADBE-58BF4F5B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037B6-D832-4F8A-A8B4-EB2DF54B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641A2-5513-466A-A648-B574D6A9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F53B-F6BE-465A-8A69-560F9AFB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CF91-A153-43D3-8CE7-BF81C0DC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5C6FD-2ACD-420D-BD1E-BB882F44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7CBEF-3861-42F9-89F2-86FCE5DD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C2F6A-AA4B-447A-8477-67179F3F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E7202-5EB2-42CD-B111-9BC8D30E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3302D-194D-4DB8-9E6F-C5383385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7041-3589-494A-900C-0D10461F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D47F2-4443-4C05-BB6F-D1E90C91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19A1D-743C-4F31-93C0-989BD5DD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B29BA-87A9-4CA9-873B-FDB5FE56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D0E2B-4A9B-48E7-B139-A58AB5F5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A947F-F77A-4550-89C6-A59E3F22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7BC2C-C22F-49F2-8B6B-114203BD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38A3D-08E0-44AB-BACF-E6FF6EB3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1E9F0-5DEA-4539-A8AA-87B0F5D8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5FF82-2098-414A-84F0-CE60C0A7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4E449-9788-4EF8-8F2E-2DC68C09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31D-9FB3-4971-866F-375BFB6E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133D6-AD82-4C85-83DD-C1265748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3D7CB-1D86-4814-95A6-9CA9DB31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1599F-172B-45ED-8401-45AEEE35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4A2CD-FCC4-442C-B1FD-BE4ADD97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0E195-0CBC-4A9E-850B-9F5DEC53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811E1-FF0E-41B5-B6E8-A41DA4A0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955E2-C70D-444A-91D9-D2051372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E04FC-442B-4B13-948D-3F332E0A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59860-972A-42B0-8E27-9E35D48E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D79F3-D893-4B58-88FF-34600D09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F6CD-F67A-42AB-9D99-F75D237E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0C9AB-4F0D-4911-9B42-893D7AF4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3390A-AEB4-40E2-8521-F3075140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B2ABA-48E7-4A35-B597-08D134FF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7E879-14F8-48C2-92F3-5BAE4FFB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E0BF5-E6C7-4E03-A138-97D12CAF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08715-BE5E-4666-AF8A-F1A4916C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908CF-CBF8-443C-B62B-59153A40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CD813-DF02-47AD-9DF5-05E699A7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4A86C-43EC-4223-939B-22327531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166A8-2B3B-485C-B827-957A0531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E450-6E44-4969-8DFC-4BBBB10A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A4378-63BD-4819-A507-8B6813D1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37ACD-3929-47C4-9DDC-2BA9AB99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EB0D9-4CFB-47CB-8289-13795B8F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40D17-1534-40C1-AF0C-6283C5B7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B4645-11AC-45C1-81F0-470F5F37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B5DB2-A0F6-4184-B985-D2EF4786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DE6DA-3BC3-400A-AC84-9D8C8F99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3712D-BC77-4524-98F2-C5C13B06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43497-836F-4F14-A847-F79AF4DD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1E525-8306-42A5-ACE9-7CD6BB9E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64F-3D6F-4429-B92F-757D9C3A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7EBDD-BC1B-4584-97A5-D0FC0B9A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C58C0-27CC-4407-8C19-D0C42237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E25EA-EAC3-4754-9DD1-29E6C6D1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239FF-27CE-464B-88DC-1F195CE7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E01E5-49C3-4F7D-87A3-7AC74166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0A5CF-B185-41CF-94B8-52D93755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B4A1B-CDCA-49EE-9514-3CE7B6CF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E8529-A283-4A98-B723-7F706785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8852E-BE08-41B3-9393-06B2CBCA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DD407-47F0-418D-B818-7CB6DF4B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47A7-000E-40EF-95A0-299227D3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7054F-9C0F-434A-8EB9-9AD015F1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7ABE8-25F6-49A6-8B78-9B592CE7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CFFE7-7260-4DB7-A3DA-75253DEE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D74CE-DFA4-4D24-B954-E2EF67AB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1CDBC-4DD3-4244-8BE1-AE91CAB3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9A7CB-E0D4-49A0-9342-B9F66170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2BD57-D9DF-46FF-89B8-9E527E02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17C0E-B2B5-4C04-837E-428B83FE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7F215-4076-4CAA-808E-55497CD4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A47FF-EEAB-49B0-9330-57B421D0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A896-71D5-469F-AB4A-A9B5F437B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6798-338C-4DB4-84B7-94E2205FC7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5B8F-6D01-496D-8D0E-4A7A226E3D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1035-1BE1-4907-B1FB-96D05B5FF3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4787-5BC5-4E98-99F3-B195948935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C910-D097-4101-B2B5-AC90820F8F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845D-F3DE-47FB-A911-D43ABFC7E1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655F-61C8-4BD8-B96B-1FB9922347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A6A0-9D62-4EF6-BD80-CFFFA32531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7DF6-A787-40F5-9970-67341F46A1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335D-1493-4855-BD66-1BD2396B9E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43FB-9FF1-414C-A467-ADF3E7F139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31BE-3C38-4EA9-8551-6B9D434649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8FB8-7C23-459F-8DDC-469254E882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8108-7DD8-48E7-B878-95E57A74AA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6C12-EEB9-4F78-A147-0993BCAD41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BC30-B47D-4643-AB25-E6EDC8616E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9CE7-1705-4B99-8231-CEC207FA7E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6D91-13C0-4676-92A1-CBB9194275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963E-19E8-4BFC-AC11-A19414C4EE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7A16-00A4-4755-8828-D726257C6B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6F64-2141-49FD-8F24-5F81BB5DC2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F7E3-9E6C-484C-B268-B46004D4A0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2F48-352A-402D-964F-91F617ECC1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114F-7748-45D1-BC2B-6147991CEA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F085-13D1-485C-BFDA-A4D38357DB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BFDE-12AE-4DF6-827B-D9D877007F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41D5-6B38-4E52-9D70-DF99B75FF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300F-4FAB-4E5D-813D-59C8EE111C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5102-C012-4D60-BFC0-E7429A8F8E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9963-C736-4071-833B-6C0861E393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47D1-3022-4812-B22B-71CC242936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5842-9C59-4D00-A319-D1A6D0F3DD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E30E-CAED-42D2-81A6-35E2818885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D51D-719D-4D48-B27D-B179A20B06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C9E6-034E-464F-9BB9-DF99B6C980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732D-2C09-4D1C-96D9-5D870E65F8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A2C0-C6D2-44BC-8EB2-8FC6F17D4C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5EA8-32FD-4DEF-AE00-79656E8AC8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A43C-A7E7-4C60-99FB-2228AB5BFC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642960" y="3232080"/>
            <a:ext cx="764388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9" name="Picture 2" descr=""/>
          <p:cNvPicPr/>
          <p:nvPr/>
        </p:nvPicPr>
        <p:blipFill>
          <a:blip r:embed="rId1"/>
          <a:stretch/>
        </p:blipFill>
        <p:spPr>
          <a:xfrm>
            <a:off x="1490760" y="1704960"/>
            <a:ext cx="61624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604800" y="800280"/>
            <a:ext cx="7934400" cy="59148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797120" y="148428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763640" y="270360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1835280" y="3860640"/>
            <a:ext cx="471240" cy="438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1835280" y="5654520"/>
            <a:ext cx="47124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509760" y="876240"/>
            <a:ext cx="8124480" cy="5838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2"/>
          <a:stretch/>
        </p:blipFill>
        <p:spPr>
          <a:xfrm>
            <a:off x="1692360" y="155736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3"/>
          <a:stretch/>
        </p:blipFill>
        <p:spPr>
          <a:xfrm>
            <a:off x="1692360" y="335772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4"/>
          <a:stretch/>
        </p:blipFill>
        <p:spPr>
          <a:xfrm>
            <a:off x="1619280" y="4581360"/>
            <a:ext cx="47160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828720" y="1357200"/>
            <a:ext cx="7486560" cy="41436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3"/>
          <a:stretch/>
        </p:blipFill>
        <p:spPr>
          <a:xfrm>
            <a:off x="1332000" y="3284640"/>
            <a:ext cx="471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595440" y="714240"/>
            <a:ext cx="7953120" cy="44388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2" descr=""/>
          <p:cNvPicPr/>
          <p:nvPr/>
        </p:nvPicPr>
        <p:blipFill>
          <a:blip r:embed="rId2"/>
          <a:stretch/>
        </p:blipFill>
        <p:spPr>
          <a:xfrm>
            <a:off x="1285920" y="5143680"/>
            <a:ext cx="7419960" cy="16668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3"/>
          <a:stretch/>
        </p:blipFill>
        <p:spPr>
          <a:xfrm>
            <a:off x="1692360" y="5157720"/>
            <a:ext cx="471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757080" y="1390680"/>
            <a:ext cx="7629840" cy="40766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2"/>
          <a:stretch/>
        </p:blipFill>
        <p:spPr>
          <a:xfrm>
            <a:off x="1332000" y="141300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3"/>
          <a:stretch/>
        </p:blipFill>
        <p:spPr>
          <a:xfrm>
            <a:off x="1332000" y="256536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4"/>
          <a:stretch/>
        </p:blipFill>
        <p:spPr>
          <a:xfrm>
            <a:off x="1332000" y="4365720"/>
            <a:ext cx="471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495360" y="790560"/>
            <a:ext cx="8153280" cy="59245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2"/>
          <a:stretch/>
        </p:blipFill>
        <p:spPr>
          <a:xfrm>
            <a:off x="2124000" y="2060640"/>
            <a:ext cx="144000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3"/>
          <a:stretch/>
        </p:blipFill>
        <p:spPr>
          <a:xfrm>
            <a:off x="4788000" y="206064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4"/>
          <a:stretch/>
        </p:blipFill>
        <p:spPr>
          <a:xfrm>
            <a:off x="1908000" y="3830760"/>
            <a:ext cx="1440000" cy="438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5"/>
          <a:stretch/>
        </p:blipFill>
        <p:spPr>
          <a:xfrm>
            <a:off x="3913200" y="3844800"/>
            <a:ext cx="1440000" cy="438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6"/>
          <a:stretch/>
        </p:blipFill>
        <p:spPr>
          <a:xfrm>
            <a:off x="1547640" y="5610240"/>
            <a:ext cx="6985080" cy="438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7"/>
          <a:stretch/>
        </p:blipFill>
        <p:spPr>
          <a:xfrm>
            <a:off x="1547640" y="6207120"/>
            <a:ext cx="6985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5" name="Picture 1" descr=""/>
          <p:cNvPicPr/>
          <p:nvPr/>
        </p:nvPicPr>
        <p:blipFill>
          <a:blip r:embed="rId1"/>
          <a:stretch/>
        </p:blipFill>
        <p:spPr>
          <a:xfrm>
            <a:off x="785880" y="1976400"/>
            <a:ext cx="7572240" cy="29052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2"/>
          <a:stretch/>
        </p:blipFill>
        <p:spPr>
          <a:xfrm>
            <a:off x="1692360" y="3141720"/>
            <a:ext cx="22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3"/>
          <a:stretch/>
        </p:blipFill>
        <p:spPr>
          <a:xfrm>
            <a:off x="6443640" y="3171960"/>
            <a:ext cx="1441440" cy="4381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4"/>
          <a:stretch/>
        </p:blipFill>
        <p:spPr>
          <a:xfrm>
            <a:off x="1887480" y="4359240"/>
            <a:ext cx="1440000" cy="438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5"/>
          <a:stretch/>
        </p:blipFill>
        <p:spPr>
          <a:xfrm>
            <a:off x="5035680" y="4359240"/>
            <a:ext cx="1079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Picture 1" descr=""/>
          <p:cNvPicPr/>
          <p:nvPr/>
        </p:nvPicPr>
        <p:blipFill>
          <a:blip r:embed="rId1"/>
          <a:stretch/>
        </p:blipFill>
        <p:spPr>
          <a:xfrm>
            <a:off x="480960" y="1071720"/>
            <a:ext cx="8182080" cy="54291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" descr=""/>
          <p:cNvPicPr/>
          <p:nvPr/>
        </p:nvPicPr>
        <p:blipFill>
          <a:blip r:embed="rId2"/>
          <a:stretch/>
        </p:blipFill>
        <p:spPr>
          <a:xfrm>
            <a:off x="2843280" y="3017880"/>
            <a:ext cx="1081080" cy="4381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3" descr=""/>
          <p:cNvPicPr/>
          <p:nvPr/>
        </p:nvPicPr>
        <p:blipFill>
          <a:blip r:embed="rId3"/>
          <a:stretch/>
        </p:blipFill>
        <p:spPr>
          <a:xfrm>
            <a:off x="2771640" y="3618000"/>
            <a:ext cx="1079640" cy="4381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4"/>
          <a:stretch/>
        </p:blipFill>
        <p:spPr>
          <a:xfrm>
            <a:off x="2771640" y="4800600"/>
            <a:ext cx="1079640" cy="4381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3" descr=""/>
          <p:cNvPicPr/>
          <p:nvPr/>
        </p:nvPicPr>
        <p:blipFill>
          <a:blip r:embed="rId5"/>
          <a:stretch/>
        </p:blipFill>
        <p:spPr>
          <a:xfrm>
            <a:off x="2843280" y="5979960"/>
            <a:ext cx="108108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4:40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